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F41-E7D3-46A2-AD6A-57AD4C52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2C8-4EE9-435F-AFB4-30B799E0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A99-DCE0-4E95-A656-2CBD6FAD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051-893B-4685-BDF9-7DEA7A6D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717-DEF0-42C3-9413-772B8135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4C1-645B-4F0D-A55F-7CB1E3F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92F-FBE8-4101-BE64-318E338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F64-97D4-4438-86B7-C393137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F1C4-8A81-4468-97D4-6E39ADE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7D1-768E-4D07-9CFF-3BBFCBC7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F702-378B-432F-8EE2-6E387633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EF19-6D42-42D8-9E59-037B13A5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78AC-7A42-4078-A1DE-3C91147B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22D1-F226-4033-986F-4D51DFC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48B-D585-4B69-9FF5-454A59E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D09-7E84-42C7-BD3A-C2B2325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0A35-A6F0-469D-A0A2-A2E160AC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E73A-E92E-403D-9132-3D644DB4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34C-8A0C-4BA5-A6C0-F060C9DF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E73B-EFE4-49E7-806C-3DAF96A7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79D-1C80-4999-8AA9-94A27BD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D4CD-9597-4C22-B505-C3A134DB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8CE2-78FF-4A8F-8DDB-662CC76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C68E-674F-4534-905B-B4404E96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7BB6-A445-46EF-B936-C3449E4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6DF5-9DC9-4384-83C2-B78C6EF3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60AF-E145-438D-BB18-BAC26F9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ED9A-9000-4980-A528-4FBD64F8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28D0-6CE3-4622-B49A-FF9854C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7FE1-E440-447D-BA15-A50B1B5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7C52-94B1-4BD3-B993-98BD7BC7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70F-03F9-4D8F-BD61-5027AAC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DE0F-E147-41A0-8BB8-9F976EC8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BBD1-8B0C-4F8D-A4FF-C6B6C815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74E7-C472-4C17-9437-3104487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12CE-2E6A-4AE0-A2E9-538C005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DEB8-7FDB-46B8-B3C5-8DD355A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0974-2C40-484F-ABEF-9942B0A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9E86-8CB7-4DFF-A66E-0E99C79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2F1B-9FF4-4AE4-BE7B-A130540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DA5C-4781-4C9E-8291-7EC5D67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09CF-5DB2-4A19-A67B-D108408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882-1D9E-4B78-9F4D-3601684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6CD9-6585-4997-BE20-1C6DDAF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89B9-E493-4FDC-B91A-D096BEC5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8644-55AB-41B1-A587-42ABA3A8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9C7-BE48-4CB4-BE91-72F2D15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789-E32A-4AF1-9230-639FCE86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7BFFFB5-CE9F-4BC3-96AA-BADB4D9FDC1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9C3CBC3-FB0B-4A8A-B9DC-D594175755C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51B5BCA-7340-4796-B8C1-CFFE5907C7A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3DDDA40-E316-4EA3-B108-DA6BC5BD059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skrót RK-O i podaj różnice pomiędzy resuscytacją a reanimacją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800" spc="-1" strike="noStrike">
                <a:solidFill>
                  <a:srgbClr val="374c81"/>
                </a:solidFill>
                <a:latin typeface="Century Gothic"/>
              </a:rPr>
              <a:t>RK-O – Resuscytacja Krążeniowo-Oddechowa </a:t>
            </a: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Resuscytacja to czynności zmierzające do przywrócenia u poszkodowanego oddechu </a:t>
            </a:r>
            <a:br>
              <a:rPr sz="2800"/>
            </a:b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i krążenia, podczas gdy celem reanimacji jest dodatkowo przywrócenie świadomości poszkodowanego.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8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